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6A5C716-1B61-4D3A-B941-56C24578DF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transport level security (e.g. 2 way SSL) with message level and role level secur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/ benefit from  the current investment  of the M.S. and EU/ EM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-ward compatibility need to be as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e gradual integration of new functionality in a way that will minimise impacts to the one already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o M.S. complete freedom to implement internally to their systems the organisational and technical approach best suiting to their individual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ise external dependenc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 a cost efficient approach creating minimum operational impa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AAD-236B-4A68-BDA2-86DE27A9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E66-A694-4BB2-B439-03FC8511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663-EB48-4CE1-80A4-5C30CD3B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6B5-3FAA-43C7-B3F0-FC08DF82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111-F543-42B1-8917-4CBA78AD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3E9-C244-432A-9A73-B59EA75E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AC6-74EE-41D3-8A15-B967783B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E3C-5486-4141-8575-3DA024B8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241-7C5D-42D5-AC01-70ACF735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C53-43CD-4B6E-9405-C4BEFA3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F7E-79BF-48A6-9157-F69202B5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B69-757F-4787-A183-D26748CC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15C5-F522-4D30-906F-0628E1E9301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08360" y="234936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Analysis of operational and technica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51280" y="1413000"/>
            <a:ext cx="4527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SSN Workshop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Lisbon 11-12 Jun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60760" y="4797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Lisbon, 12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94E-345D-481C-BFF9-E723A50310E8}" type="slidenum">
              <a:t>1</a:t>
            </a:fld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SN Core – Impact for EMSA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re will be a cost for EMSA to upgrade the applicatio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contractor estimate for the effort required for coding, testing, documentation is in the range of 115 to 200 person-day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820-5CA1-4DA4-B2B8-A2078703ED5F}" type="slidenum">
              <a:t>10</a:t>
            </a:fld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136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78c7"/>
                </a:solidFill>
                <a:uFillTx/>
                <a:latin typeface="Verdana"/>
              </a:rPr>
              <a:t>2) Transportation layer</a:t>
            </a:r>
            <a:br>
              <a:rPr sz="2400"/>
            </a:b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SSN proprietary XML interface – Extensions (solution a)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349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urrent SSN proprietary XML interface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of the SSN-EIS will be extended to encompass the PortPlus and ShipCall specific messages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“extended” XML interface will be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ompatible with the SSN XMLRG v2.xy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. The extended protocol will allow, in a first stage, the transmission and processing of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PortPlus Notifications,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hipCall Request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XML interface will be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vailable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over the existing URI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405B-AF95-49B0-A11B-289C91565875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729-7B8B-4AD3-9424-836FF248A3B8}" type="slidenum">
              <a:t>11</a:t>
            </a:fld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9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SSN proprietary XML interface - Impact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1988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Technical: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Expand XML protocol application to handle incoming PortPlus XML notification and ShipCall request message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Degree of difficulty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: Utilizing the existing proprietary XML interface reduces the degree of difficulty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Considerations: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 pre-requisite to implement this solution is to upgrade SSN core to accommodate the new data from the PortPlus message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Effort estimate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: 17 to 34 person days for EMSA and similar for the M.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7FCF-C3BA-4F60-AB2B-25CA9676450B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562-F46C-4310-9998-06FFB3D709EB}" type="slidenum">
              <a:t>12</a:t>
            </a:fld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6F7-8263-4BCF-B6CA-3DC6B3948EC6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8c7"/>
                </a:solidFill>
                <a:uFillTx/>
                <a:latin typeface="Verdana"/>
              </a:rPr>
              <a:t>3) Transportation layer</a:t>
            </a: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SSN Web Services – the key benefits (solution b)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0001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mplifies and reduces costs of system integratio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vailability of wide pool of  tools to design, implement and monitor servic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pplication developers or system integrators can build applications by composing one or more services without knowing the services' underlying implementat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rvice portability, service re-use in different applicat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nhanced security  and Qo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A6C-6D24-479C-AE3E-FD07F899F438}" type="slidenum">
              <a:t>13</a:t>
            </a:fld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960" y="9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Web Services for the PortPlus message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64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1st step: Implement a Web Service for the PortPlus message. 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n the future Web Services could cover (depending on M.S decisions) all the SSN XMLRG v2.xy message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Member States can continue sending existing Ship and Alert, Port and Hazmat messages via the SSN proprietary XML interface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 Member State can switch directly to the new messaging service upon being able to support the new messages that will make use of the new application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A1AB-C179-4BB9-9C21-E984E1032CC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CCA-1032-46B6-82E6-30F493BC63D8}" type="slidenum">
              <a:t>14</a:t>
            </a:fld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960" y="9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SSN web-services based interface - Impact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628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Technical: </a:t>
            </a: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Implement a Dispatcher for the Web Service to handle PortPlus notification and ShipCall request/response SOAP messages.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A new  distinct URI to the Member States should be applied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Member States must upgrade the interface to the maritime administrations of the country to submit PortPlus and ShipCall related information.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Degree of difficulty</a:t>
            </a: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: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Web Services provide a simplified mechanism to connect applications. The use of industry standard tools enables less expensive development.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Considerations: A</a:t>
            </a: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 pre-requisite is to upgrade SSN core to accommodate the new PortPlus message.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Higher effort to integrate Web Services (31-70 person days)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Lower maintenance costs in the medium/ long run.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229E-7CD3-48F0-A42C-942DA16FA9C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6EF-903F-405E-B87B-E9DF4C161BE3}" type="slidenum">
              <a:t>15</a:t>
            </a:fld>
          </a:p>
        </p:txBody>
      </p:sp>
    </p:spTree>
  </p:cSld>
  <p:transition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SN Web Services – Specific benefit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Easier introduction of new messages; 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Easier introduction of changes in messages;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Implementation  of  new functions (loosely coupled with the core functionality of SSN) based on the operational requirements and the specific needs of a group of Member States (e.g. developing functionality only for use by the WETREP members)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Interfacing to external systems (e.g. THETIS) that are using web-services;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urning SSN into a single window for administration-to-administration applicat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Ensure backwards compatibilit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F2FB-93E7-4DEC-AF51-624DEBA5101B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6FF-B3FF-4023-9E43-807CD9F199DD}" type="slidenum">
              <a:t>16</a:t>
            </a:fld>
          </a:p>
        </p:txBody>
      </p:sp>
    </p:spTree>
  </p:cSld>
  <p:transition spd="slow"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onclusion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 new messaging service  need to be implemented for the new PSC related messages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e introduction of the new messaging service has operational and cost impacts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o minimise impacts , let’s introduce a more open, resilient and forward looking architecture for the SSN system starting with the  introduction of  a web services based messaging interface for the new messages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F38-9710-46FE-98C7-E00A81359BC7}" type="slidenum">
              <a:t>17</a:t>
            </a:fld>
          </a:p>
        </p:txBody>
      </p:sp>
    </p:spTree>
  </p:cSld>
  <p:transition spd="slow"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E05A-0D65-4127-B85E-A3FC69DB6C36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642960" y="1643040"/>
            <a:ext cx="70009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f0"/>
                </a:solidFill>
                <a:latin typeface="Verdana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143160" y="3143160"/>
            <a:ext cx="51436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f0"/>
                </a:solidFill>
                <a:latin typeface="Verdana"/>
              </a:rPr>
              <a:t>Q &amp; 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3BA-DD22-4A52-A9A8-5B1FABB10184}" type="slidenum">
              <a:t>18</a:t>
            </a:fld>
          </a:p>
        </p:txBody>
      </p:sp>
    </p:spTree>
  </p:cSld>
  <p:transition>
    <p:wipe dir="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1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3413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This documents aims to introduce the impacts of the “PortPlus implementation” (Notification and Request/Response) at MS and SSN level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Presenting the new operational face of SSN (messaging pi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Presenting a initial technical impac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4AF-9D3B-4F67-B6B5-F6146F38B6A2}" type="slidenum">
              <a:t>2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Operational imp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the new SSN messaging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268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 new notificatio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359080"/>
          <a:ext cx="9396360" cy="36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59080"/>
                    <a:ext cx="93963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C00-75B5-4CB9-B9DF-37D8EE714E86}" type="slidenum">
              <a:t>3</a:t>
            </a:fld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8920" y="2060640"/>
            <a:ext cx="676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773360"/>
            <a:ext cx="72723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2b71"/>
                </a:solidFill>
                <a:uFillTx/>
                <a:latin typeface="Verdana"/>
              </a:rPr>
              <a:t>ShipCal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is attribute,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implemented at MS level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, will allow to,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link the all set of data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provided for a ship call via the PortPlus message. The setting up of such a mechanism is requested by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Business Rule n°5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of the Paris MoU PSC Committee (May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2b71"/>
                </a:solidFill>
                <a:uFillTx/>
                <a:latin typeface="Verdana"/>
              </a:rPr>
              <a:t>Update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It will enable the system to recognize the new (</a:t>
            </a:r>
            <a:r>
              <a:rPr b="1" lang="fr-FR" sz="2000" spc="-1" strike="noStrike">
                <a:solidFill>
                  <a:srgbClr val="002b71"/>
                </a:solidFill>
                <a:latin typeface="Verdana"/>
              </a:rPr>
              <a:t>N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) and Update (</a:t>
            </a:r>
            <a:r>
              <a:rPr b="1" lang="fr-FR" sz="2000" spc="-1" strike="noStrike">
                <a:solidFill>
                  <a:srgbClr val="002b71"/>
                </a:solidFill>
                <a:latin typeface="Verdana"/>
              </a:rPr>
              <a:t>U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) notifications. Dedicated business rule is applied (see SSN 11.3.3 &amp; 11.3.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b71"/>
                </a:solidFill>
                <a:latin typeface="Verdana"/>
              </a:rPr>
              <a:t>Result: the linked sequence of the data-flow will be garan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125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 new notification mechanism (new attribu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Operational imp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the new SSN messaging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B4D-68E0-4819-ACF2-7F50DCDC7DF1}" type="slidenum">
              <a:t>4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692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Operational imp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the new SSN messaging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207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 new Request/Response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The moment is considered mature to improve req/r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A more complete set of queries (GETShipDetails…) based on a specific set of attributes to retrieve information (see SSN 11.3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0CA-20A8-414E-A589-D6AA1DC1FC25}" type="slidenum">
              <a:t>5</a:t>
            </a:fld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602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Operational impact: 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060640"/>
            <a:ext cx="676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95280" y="1268280"/>
            <a:ext cx="2952720" cy="2216160"/>
            <a:chOff x="395280" y="1268280"/>
            <a:chExt cx="2952720" cy="22161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29527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042920" y="2131920"/>
              <a:ext cx="1728720" cy="459000"/>
            </a:xfrm>
            <a:prstGeom prst="rect">
              <a:avLst/>
            </a:prstGeom>
            <a:solidFill>
              <a:srgbClr val="00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Lucida Calligraphy"/>
                </a:rPr>
                <a:t>NEW Notification &amp; Req&amp;Res sp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187280" y="1412640"/>
              <a:ext cx="1447920" cy="171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3333cc"/>
                    </a:solidFill>
                    <a:miter/>
                  </a:ln>
                  <a:solidFill>
                    <a:srgbClr val="3333cc"/>
                  </a:solidFill>
                  <a:latin typeface="Verdana"/>
                </a:rPr>
                <a:t>MS complying with</a:t>
              </a:r>
              <a:endParaRPr b="0" lang="en-US" sz="1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492360" y="1628640"/>
            <a:ext cx="51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080" indent="-1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71"/>
                </a:solidFill>
                <a:latin typeface="Verdana"/>
              </a:rPr>
              <a:t>MSs fully complying with new XML specs will have complete access to XML functionalities, either notification and Req&amp;Res through 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03640" y="3357720"/>
            <a:ext cx="2232000" cy="1674720"/>
            <a:chOff x="3203640" y="3357720"/>
            <a:chExt cx="2232000" cy="1674720"/>
          </a:xfrm>
        </p:grpSpPr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3203640" y="3357720"/>
              <a:ext cx="223200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00520" y="3882960"/>
              <a:ext cx="1081080" cy="550800"/>
            </a:xfrm>
            <a:prstGeom prst="rect">
              <a:avLst/>
            </a:pr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Lucida Calligraphy"/>
                </a:rPr>
                <a:t>NEW Notification spe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668760" y="3506760"/>
              <a:ext cx="1297080" cy="171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3333cc"/>
                    </a:solidFill>
                    <a:miter/>
                  </a:ln>
                  <a:solidFill>
                    <a:srgbClr val="3333cc"/>
                  </a:solidFill>
                  <a:latin typeface="Verdana"/>
                </a:rPr>
                <a:t>MS complying with</a:t>
              </a:r>
              <a:endParaRPr b="0" lang="en-US" sz="1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Verdana"/>
                <a:ea typeface="Verdana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564000" y="5157720"/>
            <a:ext cx="1512720" cy="1135080"/>
            <a:chOff x="3564000" y="5157720"/>
            <a:chExt cx="1512720" cy="1135080"/>
          </a:xfrm>
        </p:grpSpPr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3564000" y="5157720"/>
              <a:ext cx="15127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933720" y="5457600"/>
              <a:ext cx="792360" cy="42876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Lucida Calligraphy"/>
                </a:rPr>
                <a:t>Existing</a:t>
              </a:r>
              <a:r>
                <a:rPr b="1" lang="en-US" sz="12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1" lang="en-US" sz="1000" spc="-1" strike="noStrike">
                  <a:solidFill>
                    <a:srgbClr val="3333cc"/>
                  </a:solidFill>
                  <a:latin typeface="Lucida Calligraphy"/>
                </a:rPr>
                <a:t>spe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746520" y="5180040"/>
              <a:ext cx="1224000" cy="98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3333cc"/>
                    </a:solidFill>
                    <a:miter/>
                  </a:ln>
                  <a:solidFill>
                    <a:srgbClr val="3333cc"/>
                  </a:solidFill>
                  <a:latin typeface="Verdana"/>
                </a:rPr>
                <a:t>MS complying with</a:t>
              </a:r>
              <a:endParaRPr b="0" lang="en-US" sz="1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24000" y="3500280"/>
            <a:ext cx="2735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-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MSs will not be able to use XML to get the new PortPlus information from SSN-EIS. Hence, data could be get only through the web-based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364500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1"/>
                </a:solidFill>
                <a:latin typeface="Verdana"/>
              </a:rPr>
              <a:t>MS complying with VTMIS and PSC Dir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537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1"/>
                </a:solidFill>
                <a:latin typeface="Verdana"/>
              </a:rPr>
              <a:t>MS complying with VTMIS Dir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350028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500280"/>
            <a:ext cx="360360" cy="273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1341360"/>
            <a:ext cx="216000" cy="17272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407664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573408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5CA-DAEF-4517-8BDB-30E24B826A44}" type="slidenum">
              <a:t>6</a:t>
            </a:fld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1" lang="en-US" sz="1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C24-9375-410D-901D-3650CB2EED97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95280" y="2060640"/>
            <a:ext cx="815976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Potential solutions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b71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tend the current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SSN proprietary XML interface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b71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b) Introduce a new interface via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Web Service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for the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PortPlus notification and ShipCall Request/ Respons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)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)+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05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8c7"/>
                </a:solidFill>
                <a:latin typeface="Verdana"/>
              </a:rPr>
              <a:t>SSN further development –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650-8223-45AF-ABC3-F9D8D25B4C69}" type="slidenum">
              <a:t>7</a:t>
            </a:fld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508720" y="2779560"/>
            <a:ext cx="3456000" cy="3745080"/>
          </a:xfrm>
          <a:prstGeom prst="rect">
            <a:avLst/>
          </a:prstGeom>
          <a:solidFill>
            <a:srgbClr val="ff66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600360" cy="3672000"/>
          </a:xfrm>
          <a:prstGeom prst="rect">
            <a:avLst/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42920" y="4940280"/>
            <a:ext cx="1728720" cy="649440"/>
            <a:chOff x="1042920" y="4940280"/>
            <a:chExt cx="1728720" cy="649440"/>
          </a:xfrm>
        </p:grpSpPr>
        <p:sp>
          <p:nvSpPr>
            <p:cNvPr id="93" name=""/>
            <p:cNvSpPr/>
            <p:nvPr/>
          </p:nvSpPr>
          <p:spPr>
            <a:xfrm>
              <a:off x="1042920" y="4940280"/>
              <a:ext cx="1728720" cy="649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6280" y="5033160"/>
              <a:ext cx="1665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Member state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59640" y="4869000"/>
            <a:ext cx="1584000" cy="647280"/>
            <a:chOff x="6659640" y="4869000"/>
            <a:chExt cx="1584000" cy="647280"/>
          </a:xfrm>
        </p:grpSpPr>
        <p:sp>
          <p:nvSpPr>
            <p:cNvPr id="96" name=""/>
            <p:cNvSpPr/>
            <p:nvPr/>
          </p:nvSpPr>
          <p:spPr>
            <a:xfrm>
              <a:off x="6659640" y="4869000"/>
              <a:ext cx="1584000" cy="64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0920" y="4869000"/>
              <a:ext cx="1454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Member state 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19280" y="39322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003560"/>
            <a:ext cx="1152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XML v.1.65-based 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( Incident, Shi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763640" y="40032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37879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4075200"/>
            <a:ext cx="1152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XML-based 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(Incident,  Shi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237440" y="38588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51640" y="3860640"/>
            <a:ext cx="0" cy="8636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596360" y="3787920"/>
            <a:ext cx="0" cy="8632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40640" y="3954600"/>
            <a:ext cx="1187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XML SOAP-based 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(PortP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92360" y="1197000"/>
            <a:ext cx="2448000" cy="1008000"/>
            <a:chOff x="3492360" y="1197000"/>
            <a:chExt cx="2448000" cy="1008000"/>
          </a:xfrm>
        </p:grpSpPr>
        <p:sp>
          <p:nvSpPr>
            <p:cNvPr id="108" name=""/>
            <p:cNvSpPr/>
            <p:nvPr/>
          </p:nvSpPr>
          <p:spPr>
            <a:xfrm>
              <a:off x="3492360" y="1197000"/>
              <a:ext cx="2448000" cy="1008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2360" y="1557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Verdana"/>
                </a:rPr>
                <a:t>SSN E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16000" y="1267920"/>
            <a:ext cx="2303280" cy="1368360"/>
            <a:chOff x="1116000" y="1267920"/>
            <a:chExt cx="2303280" cy="1368360"/>
          </a:xfrm>
        </p:grpSpPr>
        <p:sp>
          <p:nvSpPr>
            <p:cNvPr id="111" name=""/>
            <p:cNvSpPr/>
            <p:nvPr/>
          </p:nvSpPr>
          <p:spPr>
            <a:xfrm flipH="1" rot="5400000">
              <a:off x="1583280" y="800280"/>
              <a:ext cx="1368360" cy="2303280"/>
            </a:xfrm>
            <a:custGeom>
              <a:avLst/>
              <a:gdLst>
                <a:gd name="textAreaLeft" fmla="*/ 392760 w 1368360"/>
                <a:gd name="textAreaRight" fmla="*/ 1172160 w 1368360"/>
                <a:gd name="textAreaTop" fmla="*/ 1326600 h 2303280"/>
                <a:gd name="textAreaBottom" fmla="*/ 197280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32800" y="1484280"/>
              <a:ext cx="1114200" cy="33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SSN proprietary XML interfac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156360" y="1268280"/>
            <a:ext cx="2087640" cy="1368720"/>
            <a:chOff x="6156360" y="1268280"/>
            <a:chExt cx="2087640" cy="1368720"/>
          </a:xfrm>
        </p:grpSpPr>
        <p:sp>
          <p:nvSpPr>
            <p:cNvPr id="114" name=""/>
            <p:cNvSpPr/>
            <p:nvPr/>
          </p:nvSpPr>
          <p:spPr>
            <a:xfrm rot="16200000">
              <a:off x="6515640" y="908640"/>
              <a:ext cx="1368720" cy="2087640"/>
            </a:xfrm>
            <a:custGeom>
              <a:avLst/>
              <a:gdLst>
                <a:gd name="textAreaLeft" fmla="*/ 392760 w 1368720"/>
                <a:gd name="textAreaRight" fmla="*/ 1172520 w 1368720"/>
                <a:gd name="textAreaTop" fmla="*/ 1202400 h 2087640"/>
                <a:gd name="textAreaBottom" fmla="*/ 178812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8360" y="148428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SOAP based web serv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908000" y="39322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050920" y="393192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3932280"/>
            <a:ext cx="1152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XML v.XX-based 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( PortP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6021360"/>
            <a:ext cx="67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SSN EIS - Conceptu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284720" y="2349360"/>
            <a:ext cx="1944720" cy="1656000"/>
          </a:xfrm>
          <a:custGeom>
            <a:avLst/>
            <a:gdLst>
              <a:gd name="textAreaLeft" fmla="*/ 558360 w 1944720"/>
              <a:gd name="textAreaRight" fmla="*/ 1666080 w 1944720"/>
              <a:gd name="textAreaTop" fmla="*/ 953640 h 1656000"/>
              <a:gd name="textAreaBottom" fmla="*/ 14184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SN proprieta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XML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DA5-DE60-444F-AF75-36A0F613F624}" type="slidenum">
              <a:t>8</a:t>
            </a:fld>
          </a:p>
        </p:txBody>
      </p:sp>
    </p:spTree>
  </p:cSld>
  <p:transition spd="slow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9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8c7"/>
                </a:solidFill>
                <a:uFillTx/>
                <a:latin typeface="Verdana"/>
              </a:rPr>
              <a:t>1) SSN Core – required upgrades</a:t>
            </a: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988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SN core application (e.g. database structure) will be upgraded to encompass the new PortPlus and ShipCall messages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New procedures must be implemented to process the details concerning the ship voyage as well as co-relating and updating PortPlus and ShipCall messages based on the ShipCallID and (if made available by the M.S) the NotificationStatus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SSN-EIS Web console will be extended to provide the Send PortPlus notification(s) and ShipCall request related information functionalities to the Member Stat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D50B-3C41-41E8-8D35-6F85632556AA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755640" y="2602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SN Technical impac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4F4-EE17-4EC4-968E-B375600948E8}" type="slidenum">
              <a:t>9</a:t>
            </a:fld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1:39:15Z</dcterms:created>
  <dc:creator>lopezin</dc:creator>
  <dc:description/>
  <dc:language>en-US</dc:language>
  <cp:lastModifiedBy>lemoaya</cp:lastModifiedBy>
  <cp:lastPrinted>2004-03-26T09:05:49Z</cp:lastPrinted>
  <dcterms:modified xsi:type="dcterms:W3CDTF">2009-06-09T14:50:31Z</dcterms:modified>
  <cp:revision>128</cp:revision>
  <dc:subject/>
  <dc:title>Slide 1</dc:title>
</cp:coreProperties>
</file>